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drumroll.wav" ContentType="audio/x-wav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38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6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35.png" ContentType="image/png"/>
  <Override PartName="/ppt/media/applause.wav" ContentType="audio/x-wav"/>
  <Override PartName="/ppt/media/image5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4.wmf" ContentType="image/x-wmf"/>
  <Override PartName="/ppt/media/image29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F02-5006-4122-A148-64709C6C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7C0-5AA1-4838-8636-67B9C880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0D1-C709-4E09-A3DE-7EC5979B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35A-BA88-403C-9B70-C19AB486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EB61-C46E-4B3B-A4DE-109D9533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50A2-7BB5-4E65-A3EA-1AF17457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E9D0-2AFF-4A4E-AF9E-D9EF28BA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119-06F1-4915-9517-29EC4E5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73BC-4895-429B-BF57-6922197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7690-0F67-4F92-9F8A-241767EC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70C-592F-4A7A-9BF8-BCA917A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967-D5C6-49D8-895B-2E81F0F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8AE6-A4AF-4A99-974E-94E5FCC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EAF4-BE95-49A1-A295-DA92E03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272D-16F2-4BAF-8E02-79BF0531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C970-D412-4B6C-8D9D-4CAD1366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803A-6E9C-457A-BC17-A95DD15E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918-7F9A-4C93-A048-4B45842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D0B-C5CF-4165-8573-FDC3722C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B87-7B60-4E6F-B7D8-FB219CC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BD2-BC1F-4AB7-96A5-A9368A7C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1D8-77AD-4F68-9CB7-BEAE3A4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760-CECE-44DE-A574-FC7D5ED8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CE3-2DAF-495B-8B67-21BD8AB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CFA-6D37-4741-9625-32AF9199878F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2A3-3ED1-4C49-8FF5-CA683A32E71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ACA-06DF-443B-A21D-545C977BC99C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F10D-4408-4B25-B4E5-4DAA11B4A4D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8.png"/><Relationship Id="rId7" Type="http://schemas.openxmlformats.org/officeDocument/2006/relationships/image" Target="../media/image2.png"/><Relationship Id="rId8" Type="http://schemas.openxmlformats.org/officeDocument/2006/relationships/image" Target="../media/image29.jpeg"/><Relationship Id="rId9" Type="http://schemas.openxmlformats.org/officeDocument/2006/relationships/image" Target="../media/image2.png"/><Relationship Id="rId10" Type="http://schemas.openxmlformats.org/officeDocument/2006/relationships/image" Target="../media/image30.png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"/>
              </a:rPr>
              <a:t>FORME DE RELIEF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Arial Black"/>
              </a:rPr>
              <a:t>MUN</a:t>
            </a:r>
            <a:r>
              <a:rPr b="1" lang="ro-RO" sz="4800" spc="-1" strike="noStrike">
                <a:solidFill>
                  <a:srgbClr val="996633"/>
                </a:solidFill>
                <a:latin typeface="Arial Black"/>
              </a:rPr>
              <a:t>Ţ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b2b2b2"/>
                </a:solidFill>
                <a:latin typeface="Bauhaus 93"/>
              </a:rPr>
              <a:t>DEALUR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b2b2b2"/>
                </a:solidFill>
                <a:latin typeface="Bauhaus 93"/>
              </a:rPr>
              <a:t>PODIŞUR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cc33"/>
                </a:solidFill>
                <a:latin typeface="Bernard MT Condensed"/>
              </a:rPr>
              <a:t>CÂMPI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cc33"/>
                </a:solidFill>
                <a:latin typeface="Bernard MT Condensed"/>
              </a:rPr>
              <a:t>LUNC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na01062_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572000" cy="434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E9C-8C28-4AB3-8D2C-FE75CD1EA4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CDB99D-7D3F-44A1-85B8-405761CBA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9900ff"/>
                </a:solidFill>
                <a:latin typeface="comic"/>
              </a:rPr>
              <a:t>d) Grupa Munţilor Retezat Godeanu</a:t>
            </a: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Jiu şi Timiş, Cerna şi Bist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996633"/>
                </a:solidFill>
                <a:latin typeface="Arial Narrow"/>
              </a:rPr>
              <a:t>Munţii Retezatului – Parcul Naţional Retezat (plante şi animale rar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e înălţimi sunt multe lacur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Parîng şi Retezat – Depresiunea Petroşan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TRECĂTORI</a:t>
            </a:r>
            <a:r>
              <a:rPr b="0" lang="ro-RO" sz="2800" spc="-1" strike="noStrike">
                <a:solidFill>
                  <a:srgbClr val="ff0000"/>
                </a:solidFill>
                <a:latin typeface="Arial Narrow"/>
              </a:rPr>
              <a:t>: Predeal(Valea Prahovei),Turnu Roşu şi Cozia (Valea Oltului), Lainici(Valea Jiului), Br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ff"/>
                </a:solidFill>
                <a:latin typeface="Arial Narrow"/>
              </a:rPr>
              <a:t>BOGĂŢII</a:t>
            </a:r>
            <a:r>
              <a:rPr b="0" lang="ro-RO" sz="2800" spc="-1" strike="noStrike">
                <a:solidFill>
                  <a:srgbClr val="0066ff"/>
                </a:solidFill>
                <a:latin typeface="Arial Narrow"/>
              </a:rPr>
              <a:t>:păduri, păşuni, cărbuni, importanţă turistică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4386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391520" y="2438280"/>
            <a:ext cx="1371600" cy="101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405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8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5715000" y="251460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286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3657600" y="5562720"/>
            <a:ext cx="3276720" cy="96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5CA-A021-4DD8-A602-EF2F5A4A31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CBA52-F45E-41A5-A903-0011012CF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Baskerville Old Face"/>
              </a:rPr>
              <a:t>CARPAŢII OCCIDENTALI </a:t>
            </a:r>
            <a:br>
              <a:rPr sz="4400"/>
            </a:br>
            <a:r>
              <a:rPr b="1" lang="ro-RO" sz="4400" spc="-1" strike="noStrike">
                <a:solidFill>
                  <a:srgbClr val="a50021"/>
                </a:solidFill>
                <a:latin typeface="Baskerville Old Face"/>
              </a:rPr>
              <a:t>(de Apus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382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În vestul Depresiunii Transilvaniei între Dunăre, la sud, şi râul Barcău, la nor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6600cc"/>
                </a:solidFill>
                <a:latin typeface="Arial Narrow"/>
              </a:rPr>
              <a:t>Înălţimea- rareori-peste 1800m</a:t>
            </a:r>
            <a:r>
              <a:rPr b="0" lang="ro-RO" sz="2800" spc="-1" strike="noStrike">
                <a:solidFill>
                  <a:srgbClr val="66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71440" y="1752120"/>
            <a:ext cx="579132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87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Grupa M-ţilor Banatului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    </a:t>
            </a: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-între Dunăre şi Timiş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    </a:t>
            </a: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-în sud-Defileul Dunării, hidrocentrala Porţile de Fier</a:t>
            </a:r>
            <a:r>
              <a:rPr b="1" lang="ro-RO" sz="2400" spc="-1" strike="noStrike">
                <a:solidFill>
                  <a:srgbClr val="0000ff"/>
                </a:solidFill>
                <a:latin typeface="Arial Narrow"/>
              </a:rPr>
              <a:t>.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43290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553080" y="990720"/>
            <a:ext cx="2590920" cy="1492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44348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200400"/>
            <a:ext cx="6019920" cy="11354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73c19a"/>
              </a:gs>
            </a:gsLst>
            <a:lin ang="8100000"/>
          </a:gra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d487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Grupa M-ţilor Poiana Rusc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    </a:t>
            </a: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-între Timiş , Bistra şi Mureş (n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    </a:t>
            </a: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-cele mai importante zăcăminte de marmură şi 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343400"/>
            <a:ext cx="5334120" cy="1267560"/>
          </a:xfrm>
          <a:prstGeom prst="rect">
            <a:avLst/>
          </a:prstGeom>
          <a:gradFill rotWithShape="0">
            <a:gsLst>
              <a:gs pos="0">
                <a:srgbClr val="c19ac1"/>
              </a:gs>
              <a:gs pos="50000">
                <a:srgbClr val="ffccff"/>
              </a:gs>
              <a:gs pos="100000">
                <a:srgbClr val="c19a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487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99"/>
                </a:solidFill>
                <a:latin typeface="Arial Narrow"/>
              </a:rPr>
              <a:t>Grupa M-ţilor Apuseni cu                      M-ţii Bihorului ( peste1800m) 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 Narrow"/>
              </a:rPr>
              <a:t>M</a:t>
            </a:r>
            <a:r>
              <a:rPr b="1" lang="ro-RO" sz="2400" spc="-1" strike="noStrike">
                <a:solidFill>
                  <a:srgbClr val="990099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990099"/>
                </a:solidFill>
                <a:latin typeface="Arial Narrow"/>
              </a:rPr>
              <a:t>tii</a:t>
            </a:r>
            <a:r>
              <a:rPr b="1" lang="ro-RO" sz="2400" spc="-1" strike="noStrike">
                <a:solidFill>
                  <a:srgbClr val="990099"/>
                </a:solidFill>
                <a:latin typeface="Arial Narrow"/>
              </a:rPr>
              <a:t> Metal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6035760"/>
            <a:ext cx="7467480" cy="75204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50000">
                <a:srgbClr val="fefefe"/>
              </a:gs>
              <a:gs pos="100000">
                <a:srgbClr val="d487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Narrow"/>
              </a:rPr>
              <a:t>FRUMUSEŢI -Cheile Turzii, gheţarul Scărişoara, Cheile Ponorului, un frumos şirag de peşteri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, Detunata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16360" y="5562720"/>
            <a:ext cx="5325840" cy="52056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BOGĂŢII: păduri,cărbuni, aur,fier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895480" y="3962520"/>
            <a:ext cx="909720" cy="2133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452-57E9-46F1-9A7A-493068EF43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1F64-BE77-485D-81F4-CCEA5BB94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41D0-E238-49B0-A649-2B992B50541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071-304C-417F-99BA-AD1E22CE478C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153280" cy="1524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660066"/>
                </a:solidFill>
                <a:latin typeface="Times New Roman"/>
              </a:rPr>
              <a:t>DEALURILE</a:t>
            </a:r>
            <a:br>
              <a:rPr sz="6000"/>
            </a:b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forme de relief mai joase decât munţii (300-1000m),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pante şi culmi domoale.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4647960"/>
            <a:ext cx="8763120" cy="1904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66"/>
                </a:solidFill>
                <a:latin typeface="Arial Narrow"/>
              </a:rPr>
              <a:t>BOGĂŢII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400" spc="-1" strike="noStrike">
                <a:solidFill>
                  <a:srgbClr val="009900"/>
                </a:solidFill>
                <a:latin typeface="Arial Narrow"/>
              </a:rPr>
              <a:t>- la suprafaţă: păşuni,păduri,livezi,vii(Măgura Odobeştilor, Valea Călugărească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o-RO" sz="2400" spc="-1" strike="noStrike">
                <a:solidFill>
                  <a:srgbClr val="0033cc"/>
                </a:solidFill>
                <a:latin typeface="Arial Narrow"/>
              </a:rPr>
              <a:t>în subsol: cărbuni, petrol, gaze naturale, sare, ape minerale(Slănic- Prahova, Olăneşti, Călimăneşti-ape pt. vindecarea unor bol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828800"/>
            <a:ext cx="434340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e întind în jurul munţ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unt numite Dealuri subca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patice şi Dealurile de 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-au format prin încreţi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coarţei pământu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unt separate de depresi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905120"/>
            <a:ext cx="3840120" cy="260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ubcarpaţ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Moldov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de Curbur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Ge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6600"/>
                </a:solidFill>
                <a:latin typeface="Arial"/>
              </a:rPr>
              <a:t>Dealurile Vestic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-au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in depunerea pietrişului şi nis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ului adus de apele curgătoar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95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010280" y="1905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467480" cy="64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d4876c"/>
                </a:solidFill>
                <a:latin typeface="Abadi MT Condensed Light"/>
              </a:rPr>
              <a:t>DEPRESIUNEA (PODIŞUL) TRANSILVANIE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990360"/>
            <a:ext cx="3697200" cy="2971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Arial Narrow"/>
              </a:rPr>
              <a:t>Aşezare</a:t>
            </a:r>
            <a:r>
              <a:rPr b="0" lang="ro-RO" sz="2400" spc="-1" strike="noStrike">
                <a:solidFill>
                  <a:srgbClr val="3333cc"/>
                </a:solidFill>
                <a:latin typeface="Arial Narrow"/>
              </a:rPr>
              <a:t>: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în mijlocul arcului carpatin,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partea centrală şi N-V Transilvanie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Arial Narrow"/>
              </a:rPr>
              <a:t>Înălţimea</a:t>
            </a:r>
            <a:r>
              <a:rPr b="0" lang="ro-RO" sz="2400" spc="-1" strike="noStrike">
                <a:solidFill>
                  <a:srgbClr val="3399ff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mijlocie-500m, mai înaltă în partea de est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700-800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00"/>
                </a:solidFill>
                <a:latin typeface="Arial Narrow"/>
              </a:rPr>
              <a:t>Porţi către exterior</a:t>
            </a:r>
            <a:r>
              <a:rPr b="1" lang="ro-RO" sz="2000" spc="-1" strike="noStrike">
                <a:solidFill>
                  <a:srgbClr val="3399ff"/>
                </a:solidFill>
                <a:latin typeface="Arial Narrow"/>
              </a:rPr>
              <a:t>: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Someşul Mureşul şi Oltu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5200" y="1143000"/>
            <a:ext cx="4078080" cy="28195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 Narrow"/>
              </a:rPr>
              <a:t>BOGĂŢI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660066"/>
                </a:solidFill>
                <a:latin typeface="Arial Narrow"/>
              </a:rPr>
              <a:t>-în adâncuri:gaz metan şi s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660066"/>
                </a:solidFill>
                <a:latin typeface="Arial Narrow"/>
              </a:rPr>
              <a:t>-la suprafaţă:pomi fructiferi, cereale, viţă-de-vie, păduri de stejar şi fa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cc00"/>
                </a:solidFill>
                <a:latin typeface="Arial Narrow"/>
              </a:rPr>
              <a:t>Unităţi component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b2b2b2"/>
                </a:solidFill>
                <a:latin typeface="Arial Narrow"/>
              </a:rPr>
              <a:t>    </a:t>
            </a: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- Pod. Someşulu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- Câmpia Transilvanie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- Pod. Târnavel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433872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4495680" y="3733920"/>
            <a:ext cx="3200400" cy="259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3480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4DC-37F8-4B74-A436-D011EBD12B4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E50A1-665E-48E0-AD25-63CF46718937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OCR A Extended"/>
              </a:rPr>
              <a:t>PODISURI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5257800"/>
            <a:ext cx="495288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Arial Narrow"/>
              </a:rPr>
              <a:t>2. -mai înalt în N,mai jos în 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Arial Narrow"/>
              </a:rPr>
              <a:t>-bun pt. agricultură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Arial Narrow"/>
              </a:rPr>
              <a:t>-Oraşe: Iaşi,Suceava, Bacău, Botoşan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600200"/>
            <a:ext cx="4267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t forme de relief mai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alte decât      câmpiile.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au format prin depunerea nisipului, pietrişului,argilei în locul unor lacuri sau  prin tocirea munţilor.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1690560"/>
            <a:ext cx="4191120" cy="192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3. Mai înalt la n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-este străbătut de Jiu, Olt, Arge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-bun pt. cereale, pomi fructiferi, viţ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de vie (Drăgăşan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-în subsol: petrol, gaze naturale, şi cărb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519360"/>
            <a:ext cx="4191120" cy="1618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4.Format d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a) Masivul Dobrogei de Nord( M-ţ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Măcinului-465m)-cei mai vechi munţ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-granitul, păduri de stejar şi te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-se cultivă viţa de vie, ce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644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390760" cy="1047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3352680"/>
            <a:ext cx="4952880" cy="2228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3300"/>
                </a:solidFill>
                <a:latin typeface="Times New Roman"/>
              </a:rPr>
              <a:t>PRINCIPALELE PODIŞURI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cc6600"/>
                </a:solidFill>
                <a:latin typeface="Times New Roman"/>
              </a:rPr>
              <a:t>) Pod. Transilvaniei(în centrul ţării)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                                         </a:t>
            </a: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2) Pod. Moldovei (între Siret şi Prut)                                        </a:t>
            </a: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3) Pod. Getic (între Dâmboviţa şi Dunăre) </a:t>
            </a: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4)Pod. Moldovei (între Dunăre, Marea Neagră şi Bulgaria la su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352680" y="495288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952880" y="5105520"/>
            <a:ext cx="4191120" cy="1618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b) Pod. Dobrogei de Sud- neted ca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câm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-sunt puţine pl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-în est- litoralul cu portul Constanţa 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staţiuni de odihnă şi tra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897-0A16-4594-AABB-0796116491B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2F00A-EED7-4F7E-AC31-CC7B6D116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OCR A Extended"/>
              </a:rPr>
              <a:t>CÂMPII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4495680" cy="100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9900"/>
                </a:solidFill>
                <a:latin typeface="Times New Roman"/>
              </a:rPr>
              <a:t>Forme joase de relief, netede şi înti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669900"/>
                </a:solidFill>
                <a:latin typeface="Times New Roman"/>
              </a:rPr>
              <a:t>(200-30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9900"/>
                </a:solidFill>
                <a:latin typeface="Times New Roman"/>
              </a:rPr>
              <a:t>Sunt foarte bune pentru agricultur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133720"/>
            <a:ext cx="4495680" cy="1618560"/>
          </a:xfrm>
          <a:prstGeom prst="rect">
            <a:avLst/>
          </a:prstGeom>
          <a:gradFill rotWithShape="0">
            <a:gsLst>
              <a:gs pos="0">
                <a:srgbClr val="f5ebc1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CÂMPIA ROMÂNĂ s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CÂMPIA DUNĂRII (grânarul ţăr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situată în sud, de-a lungul Dun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partea de est – Câmpia Bărăganul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       – </a:t>
            </a: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cea mai întinsă şi neted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2895480"/>
            <a:ext cx="4114800" cy="1008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b) CÂMPIA DE V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situată în vestul ţ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Se cultivă mari suprafeţe cu cereal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937040"/>
            <a:ext cx="3962520" cy="1923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întâlnesc lacuri cu apă dul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întâlnesc lacuri cu apă dul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ărată sau amar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vest ,soluri nisipo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ultivă viţa de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subsol – petrol şi gaze nat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733920"/>
            <a:ext cx="3962520" cy="131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ebc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4876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este brăzdată de Jiu, Olt, Argeş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Ialomiţa, Buzău, Si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4876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iarna foarte geroasă cu vântu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puternice, vara f. Călduroas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886200"/>
            <a:ext cx="4114800" cy="1313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000000"/>
              </a:gs>
              <a:gs pos="100000">
                <a:srgbClr val="cc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-este străbătută de Someş, Crişur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Mureş, Timi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-iarna este blândă în sud şi aspră î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Nord, cu precipitaţii bo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1120" y="5257800"/>
            <a:ext cx="4152240" cy="131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în subsol – zăcăminte de petrol , ga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naturale şi izvoare termale(cu ap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aldă- folosite în tratarea unor b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Staţiunea Băile Felix, lângă Orad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3872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6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144792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2A6-535C-474D-9203-D35081A172E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6934F-212A-45F8-9B17-62921BE3DE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57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66ff"/>
                </a:solidFill>
                <a:latin typeface="Times New Roman"/>
              </a:rPr>
              <a:t>LUNC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unt fâşii de pământ înguste, netede şi joase, înti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de-a lungul râurilor, de o parte şi de alta a acestor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zona de câmpie sunt mai largi decât în zona de d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76520"/>
            <a:ext cx="335268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LUNCA DUNĂR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– </a:t>
            </a: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de la Drobeta Turnu  Sever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până la Delta Dun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4760" y="2666880"/>
            <a:ext cx="5755680" cy="192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se găsesc bălţi şi lacuri cu peş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terenurile sunt foarte roditoare (zarzavaturi şi cere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pădurile (din sălcii şi plopi) se numesc zăvoai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s-au construit diguri împotriva revărsării ape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(în  Balta Ialomiţei şi Insula Mare a Brăil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şi canale de scurgere pentru desecarea  terenuril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67600" y="685800"/>
            <a:ext cx="2876400" cy="1008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6600"/>
                </a:solidFill>
                <a:latin typeface="Times New Roman"/>
              </a:rPr>
              <a:t>DELTA DUN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6600"/>
                </a:solidFill>
                <a:latin typeface="Times New Roman"/>
              </a:rPr>
              <a:t>-este cel mai nou pământ al ţ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1676520"/>
            <a:ext cx="4495680" cy="703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e9fee9"/>
              </a:gs>
              <a:gs pos="100000">
                <a:srgbClr val="99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3366"/>
                </a:solidFill>
                <a:latin typeface="Times New Roman"/>
              </a:rPr>
              <a:t>            </a:t>
            </a:r>
            <a:r>
              <a:rPr b="0" lang="ro-RO" sz="2000" spc="-1" strike="noStrike">
                <a:solidFill>
                  <a:srgbClr val="993366"/>
                </a:solidFill>
                <a:latin typeface="Times New Roman"/>
              </a:rPr>
              <a:t>Se desparte în trei braţ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3366"/>
                </a:solidFill>
                <a:latin typeface="Times New Roman"/>
              </a:rPr>
              <a:t>-CHILIA, SULINA şi SF.GHEORG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2362320"/>
            <a:ext cx="3429000" cy="100872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00cc"/>
                </a:solidFill>
                <a:latin typeface="Times New Roman"/>
              </a:rPr>
              <a:t>Este o adevărată împărăţ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00cc"/>
                </a:solidFill>
                <a:latin typeface="Times New Roman"/>
              </a:rPr>
              <a:t>a apelor, a plantelor, păsărilor şi animale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352680"/>
            <a:ext cx="3581280" cy="1618560"/>
          </a:xfrm>
          <a:prstGeom prst="rect">
            <a:avLst/>
          </a:prstGeom>
          <a:gradFill rotWithShape="0">
            <a:gsLst>
              <a:gs pos="0">
                <a:srgbClr val="bafcd8"/>
              </a:gs>
              <a:gs pos="100000">
                <a:srgbClr val="8cbea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Aluviunile depuse formeaz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Ridicături de pământ num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Grinduri (aici cresc păduri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sălcii, plopi şi stejari unde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adăpostesc mistreţi, vulpi şi lup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1160" y="4648320"/>
            <a:ext cx="4807440" cy="10087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8e4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Delta Dunării este unică în Euro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prin frumuseţe, bogăţie şi varietatea plante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şi animalelor şi declarată rezervaţie natural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640" y="5715000"/>
            <a:ext cx="8755920" cy="9169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Păsări: lopătarul, cocorul, raţa şi gâsca sălbatică,lebăda, pelican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Insecte 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o-RO" sz="1800" spc="-1" strike="noStrike">
                <a:solidFill>
                  <a:srgbClr val="ff0000"/>
                </a:solidFill>
                <a:latin typeface="Times New Roman"/>
              </a:rPr>
              <a:t>ţânţari, libelule,fluturi),melci,scoici,păianjeni,broaşte,şerpi,peşti(40),vidra,nurca</a:t>
            </a: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Plante: stuf (pentru hârtie ),pap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952880"/>
            <a:ext cx="1981080" cy="85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663300"/>
                </a:solidFill>
                <a:latin typeface="Times New Roman"/>
              </a:rPr>
              <a:t>Delta este vizitat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3300"/>
                </a:solidFill>
                <a:latin typeface="Times New Roman"/>
              </a:rPr>
              <a:t>de turişti pent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3300"/>
                </a:solidFill>
                <a:latin typeface="Times New Roman"/>
              </a:rPr>
              <a:t>frumuseţile e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32080" y="-31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LUNCILE ŞI DELTA DUNĂRI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286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352680" y="1676520"/>
            <a:ext cx="1295640" cy="990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718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029200" y="3276720"/>
            <a:ext cx="609480" cy="1066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43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83844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41000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391520" y="49528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32432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924680" y="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A01-4BD5-428D-BE3A-690DF56AF0B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C6507-BBCD-4B11-9B2C-36F157F63E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991800"/>
            <a:ext cx="8545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6600cc"/>
                </a:solidFill>
                <a:latin typeface="Arial Black"/>
              </a:rPr>
              <a:t>MUNTII</a:t>
            </a:r>
            <a:r>
              <a:rPr b="1" i="1" lang="en-US" sz="4400" spc="-1" strike="noStrike">
                <a:solidFill>
                  <a:srgbClr val="6600cc"/>
                </a:solidFill>
                <a:latin typeface="Arial Black"/>
              </a:rPr>
              <a:t> CARPA</a:t>
            </a:r>
            <a:r>
              <a:rPr b="1" i="1" lang="ro-RO" sz="4400" spc="-1" strike="noStrike">
                <a:solidFill>
                  <a:srgbClr val="6600cc"/>
                </a:solidFill>
                <a:latin typeface="Arial Black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8440" y="3075120"/>
          <a:ext cx="8234280" cy="30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3075120"/>
                    <a:ext cx="823428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bd05219_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137304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4BF-73EF-4137-88B9-F6C7384AE5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A2ACC-4652-427C-9921-903072B1F697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669900"/>
                </a:solidFill>
                <a:latin typeface="comic"/>
              </a:rPr>
              <a:t>        </a:t>
            </a:r>
            <a:r>
              <a:rPr b="0" lang="ro-RO" sz="4400" spc="-1" strike="noStrike">
                <a:solidFill>
                  <a:srgbClr val="669900"/>
                </a:solidFill>
                <a:latin typeface="comic"/>
              </a:rPr>
              <a:t>CARPAŢII ORIENTALI (RĂSĂRITENI)</a:t>
            </a:r>
            <a:br>
              <a:rPr sz="4400"/>
            </a:br>
            <a:r>
              <a:rPr b="0" lang="ro-RO" sz="2800" spc="-1" strike="noStrike">
                <a:solidFill>
                  <a:srgbClr val="669900"/>
                </a:solidFill>
                <a:latin typeface="Arial Narrow"/>
              </a:rPr>
              <a:t>             </a:t>
            </a:r>
            <a:r>
              <a:rPr b="1" lang="ro-RO" sz="2800" spc="-1" strike="noStrike">
                <a:solidFill>
                  <a:srgbClr val="669900"/>
                </a:solidFill>
                <a:latin typeface="Arial Narrow"/>
              </a:rPr>
              <a:t>-de la hotarul de nord la Valea Prahove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2514600"/>
          <a:ext cx="4629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4629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bd06455_" descr=""/>
          <p:cNvPicPr/>
          <p:nvPr/>
        </p:nvPicPr>
        <p:blipFill>
          <a:blip r:embed="rId3"/>
          <a:stretch/>
        </p:blipFill>
        <p:spPr>
          <a:xfrm>
            <a:off x="6781680" y="3124080"/>
            <a:ext cx="1889280" cy="187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676520"/>
            <a:ext cx="88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a) Grupa nordică</a:t>
            </a:r>
            <a:r>
              <a:rPr b="0" lang="ro-RO" sz="32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cc"/>
                </a:solidFill>
                <a:latin typeface="Times New Roman"/>
              </a:rPr>
              <a:t>de la hotarul de nord la Depresiunea Dornelor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0" lang="ro-RO" sz="3200" spc="-1" strike="noStrike">
                <a:solidFill>
                  <a:srgbClr val="0000cc"/>
                </a:solidFill>
                <a:latin typeface="Times New Roman"/>
              </a:rPr>
              <a:t>i Cîmpu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FF8-0733-4AEC-8C8E-DDCA0CE202D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2CB18-274D-49D8-8ABA-308742A1123E}" type="datetime1">
              <a:rPr lang="en-US"/>
              <a:t>07/30/26</a:t>
            </a:fld>
          </a:p>
        </p:txBody>
      </p:sp>
    </p:spTree>
  </p:cSld>
  <p:transition>
    <p:split dir="in" orient="vert"/>
    <p:sndAc>
      <p:stSnd>
        <p:snd r:embed="rId4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49200"/>
            <a:ext cx="8610480" cy="210168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00cc"/>
                </a:solidFill>
                <a:latin typeface="Times New Roman"/>
              </a:rPr>
              <a:t>b) Grupa centrală</a:t>
            </a:r>
            <a:r>
              <a:rPr b="1" lang="ro-RO" sz="4400" spc="-1" strike="noStrike">
                <a:solidFill>
                  <a:srgbClr val="996633"/>
                </a:solidFill>
                <a:latin typeface="Arial Narrow"/>
              </a:rPr>
              <a:t>            </a:t>
            </a:r>
            <a:br>
              <a:rPr sz="4400"/>
            </a:br>
            <a:r>
              <a:rPr b="1" i="1" lang="ro-RO" sz="4400" spc="-1" strike="noStrike">
                <a:solidFill>
                  <a:srgbClr val="996633"/>
                </a:solidFill>
                <a:latin typeface="Arial Narrow"/>
              </a:rPr>
              <a:t>-spre sud până la Valea Oituzulu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34520" cy="426708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5821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Căliman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Gurghi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Harghit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Bistriţei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 (în sud –</a:t>
            </a: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Ceahlăul 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numit “</a:t>
            </a:r>
            <a:r>
              <a:rPr b="1" lang="ro-RO" sz="3200" spc="-1" strike="noStrike">
                <a:solidFill>
                  <a:srgbClr val="9900ff"/>
                </a:solidFill>
                <a:latin typeface="Arial Narrow"/>
              </a:rPr>
              <a:t>Piatra nestemată a Moldovei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”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Rară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Hăşmaşul Mare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( izvorăsc </a:t>
            </a:r>
            <a:r>
              <a:rPr b="1" lang="ro-RO" sz="3200" spc="-1" strike="noStrike">
                <a:solidFill>
                  <a:srgbClr val="0000ff"/>
                </a:solidFill>
                <a:latin typeface="Arial Narrow"/>
              </a:rPr>
              <a:t>Oltul şi Mureşul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dd01352_" descr=""/>
          <p:cNvPicPr/>
          <p:nvPr/>
        </p:nvPicPr>
        <p:blipFill>
          <a:blip r:embed="rId7"/>
          <a:stretch/>
        </p:blipFill>
        <p:spPr>
          <a:xfrm>
            <a:off x="6781680" y="2895480"/>
            <a:ext cx="1295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79A-38F1-4DD9-BE56-9E0BE97440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B2B4F-6A0C-4CF8-9265-BCAE288A7FBA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92160"/>
            <a:ext cx="8610480" cy="1279440"/>
          </a:xfrm>
          <a:prstGeom prst="rect">
            <a:avLst/>
          </a:prstGeom>
          <a:solidFill>
            <a:srgbClr val="f8f9d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6600"/>
                </a:solidFill>
                <a:latin typeface="Arial Black"/>
              </a:rPr>
              <a:t>C) Grupa sudica </a:t>
            </a:r>
            <a:br>
              <a:rPr sz="4400"/>
            </a:br>
            <a:r>
              <a:rPr b="1" i="1" lang="ro-RO" sz="4400" spc="-1" strike="noStrike">
                <a:solidFill>
                  <a:srgbClr val="006600"/>
                </a:solidFill>
                <a:latin typeface="Arial Black"/>
              </a:rPr>
              <a:t>( Carpatii de Curbura 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-spre vest până la Valea Prahov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6633"/>
                </a:solidFill>
                <a:latin typeface="Arial Narrow"/>
              </a:rPr>
              <a:t>Munţii Vranc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6633"/>
                </a:solidFill>
                <a:latin typeface="Arial Narrow"/>
              </a:rPr>
              <a:t>Munţii Buză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6633"/>
                </a:solidFill>
                <a:latin typeface="Arial Narrow"/>
              </a:rPr>
              <a:t>Munţii Ciucaş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- în nordul acestora – Depresiunea Braşov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 Narrow"/>
              </a:rPr>
              <a:t>TRECĂTORI: Prislop, Bicaz, Oituz, Prede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ff"/>
                </a:solidFill>
                <a:latin typeface="Arial Narrow"/>
              </a:rPr>
              <a:t>BOGĂŢII : animale sălbatice, cărbuni, metale, piatră de construcţie, ape mineral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46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3465"/>
                </a:solidFill>
                <a:latin typeface="Arial Narrow"/>
              </a:rPr>
              <a:t>ZONE TURISTICE: M-ţii Rodnei, Ceahlău, Valea Bicazului, Obcinele Bucovinei, Ţara Oaşului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5638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d1ec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4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297180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870-4AF8-446A-8294-D0A99333CD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1D4FC-A236-47AC-B30E-D2AED0DB0A8B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0000"/>
                </a:solidFill>
                <a:latin typeface="comic"/>
              </a:rPr>
              <a:t>CARPAŢII MERIDIONALI </a:t>
            </a:r>
            <a:br>
              <a:rPr sz="4400"/>
            </a:br>
            <a:r>
              <a:rPr b="1" i="1" lang="ro-RO" sz="4400" spc="-1" strike="noStrike">
                <a:solidFill>
                  <a:srgbClr val="000000"/>
                </a:solidFill>
                <a:latin typeface="comic"/>
              </a:rPr>
              <a:t>( de  MIAZĂZI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a50021"/>
                </a:solidFill>
                <a:latin typeface="Arial Narrow"/>
              </a:rPr>
              <a:t>La sud de Depresiunea Transilvaniei, între Valea  Prahovei la est şi văile Timiş, Cerna şi Bistra la ve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a50021"/>
                </a:solidFill>
                <a:latin typeface="Arial Narrow"/>
              </a:rPr>
              <a:t>Cei mai înalţi munţi din ţară (peste 2500m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a50021"/>
                </a:solidFill>
                <a:latin typeface="Arial Narrow"/>
              </a:rPr>
              <a:t>Formaţi din roci tar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86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9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495680" y="4800600"/>
            <a:ext cx="43434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479-A51E-487B-8930-45AC031CC6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51605-C172-4F2D-B74C-949CDD278B12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Footlight MT Light"/>
              </a:rPr>
              <a:t>a) Grupa Munţilor Buceg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00"/>
                </a:solidFill>
                <a:latin typeface="Arial Narrow"/>
              </a:rPr>
              <a:t>Între Prahova şi Dîmboviţ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ff"/>
                </a:solidFill>
                <a:latin typeface="Arial Narrow"/>
              </a:rPr>
              <a:t>Pante abrupte, stâncoase, aspect impunător, frumuseţi naturale –Babele şi Sfinxul                   -( cei mai vizitaţi munţi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 Narrow"/>
              </a:rPr>
              <a:t>Vârful Omu ( 2505m 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 Narrow"/>
              </a:rPr>
              <a:t>   – </a:t>
            </a:r>
            <a:r>
              <a:rPr b="1" lang="ro-RO" sz="3200" spc="-1" strike="noStrike">
                <a:solidFill>
                  <a:srgbClr val="cc3300"/>
                </a:solidFill>
                <a:latin typeface="Arial Narrow"/>
              </a:rPr>
              <a:t>staţie meteorologic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433872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6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334120" y="3657600"/>
            <a:ext cx="25905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CFC-8CD2-47CA-8471-39BB2F42B2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D3222-AE71-4565-9707-8EC489B5F7F6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a50021"/>
                </a:solidFill>
                <a:latin typeface="Elephant"/>
              </a:rPr>
              <a:t>b) Grupa M-ţilor Făgăraşulu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66"/>
                </a:solidFill>
                <a:latin typeface="Arial Narrow"/>
              </a:rPr>
              <a:t>Între Dîmboviţa şi Ol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00"/>
                </a:solidFill>
                <a:latin typeface="Arial Narrow"/>
              </a:rPr>
              <a:t>Moldoveanu ( 2544m ) şi Negoiu ( 2535m ) –cele mai înalte vârfuri din ţară, sunt sălaşul caprelor negr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ff"/>
                </a:solidFill>
                <a:latin typeface="Arial Narrow"/>
              </a:rPr>
              <a:t>Pe Argeş la Vidraru  - hidrocentral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439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971800" y="34290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006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7086600" y="4724280"/>
            <a:ext cx="160020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A62-A6E1-4954-94F8-16C623AD11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77809-7224-437E-BDC7-7BA4B76A1003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Bernard MT Condensed"/>
              </a:rPr>
              <a:t>c) Grupa Munţilor Parâng           </a:t>
            </a:r>
            <a:r>
              <a:rPr b="1" i="1" lang="ro-RO" sz="4400" spc="-1" strike="noStrike">
                <a:solidFill>
                  <a:srgbClr val="0000cc"/>
                </a:solidFill>
                <a:latin typeface="Bernard MT Condensed"/>
              </a:rPr>
              <a:t>(între Olt şi Jiu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533680"/>
            <a:ext cx="8077320" cy="2043720"/>
          </a:xfrm>
          <a:prstGeom prst="rect">
            <a:avLst/>
          </a:prstGeom>
          <a:solidFill>
            <a:srgbClr val="c6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Munţii Parâng ( peste 2500m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Munţii Şureanu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    – </a:t>
            </a: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cetatea dacică Sarmizeget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14600" y="4154400"/>
            <a:ext cx="4267080" cy="17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C9A-959E-45BD-BE3A-AF46A12D2D1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C57F4-3263-4587-9C27-29E909E6CF94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5-11-09T23:35:44Z</dcterms:modified>
  <cp:revision>12</cp:revision>
  <dc:subject/>
  <dc:title>PowerPoint Presentation</dc:title>
</cp:coreProperties>
</file>